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F7E-1B56-4CC7-AE53-CEAC7787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0BF-573D-49D0-896C-7547F204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E33-8749-4DE8-A313-87E4B7FF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94B-9BEB-4A3F-968F-88D42A35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1723-9AF0-4656-B264-EE49D10C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B9C4-4803-4B85-9631-826216E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F369-E9B8-4952-8CC0-DFDFD068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2FFC-7366-4623-B4FF-3EEEF3E3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F82A-F112-4AA5-A02D-C164D449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EA20-7C22-45D7-95FF-964B8D58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83CF-56D6-4F24-B49B-2734124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28F-A3EA-4D12-9B81-6BDAA55D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A4DC-C63A-4D38-B2AA-152837E0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BD10-190D-4032-93F1-2FAB314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D5CF-9D5B-41B0-94A2-1CC9FE49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7CE3-A28E-4200-846A-D95C4DA0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577-70AC-4C81-9176-37DD0811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92AB-6791-4BBD-8241-51C699AB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EA6B-32AA-45E2-A0E9-F385B9E5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3D57-6A55-4063-9B71-5780C0C4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3927-AB8C-458A-B7A3-9660417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24B7-D0BA-40D6-9726-558CAFCE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941-27F6-4B95-8864-61BFCCB1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33B0-D581-4CE4-8FFD-7A9C0C7D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A881-3417-4791-A7E6-1AF745A6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CC7A3-9525-470E-A677-EFCEE59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665B-CDD4-48B2-93FD-9A6257F9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2ADC-8AD0-48E0-A555-43AAC10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0859-E58B-4D48-8AB2-D5CCF1D5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BDF3-4035-4EEA-B02C-04B36080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E7EB-286C-41FA-B3BA-F0BEC62B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735D-95F3-4013-A176-7A1CA44F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3401-0E3A-4D12-ABB2-5ECD57A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53F-842C-4222-B1A7-A9DCC7A8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7B77-B8F9-416E-B0F5-99676538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0BDC-DAD8-473A-AA9D-E7DEE653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F8148-9600-4510-9E72-8E23B99E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2E5AD-7772-42FE-9B40-53A409D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2C6B-60D8-4D0D-B58B-06D3427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A4DA-E1B7-45A3-8EFF-3CE77142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61F4-1073-401C-8EA7-47303F8E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DCB6-D3E9-44EC-9E01-6EBEBE05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65AE9-5428-4D84-AF28-D4694EFF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19B7-99E5-40EB-AC30-425396AA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504-6E4D-48AC-BF32-27011A2E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AD210-6341-4978-91E0-32224D00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975B-F601-499E-8D34-2651D5C8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F5EEF-31A5-40BB-B4A3-3E7956CD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61A0-9774-4F5E-AD25-04FF0387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D347-4943-4A83-87EC-E805CBD6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CA9CC-6839-428E-846A-F8EAA8C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1A0E-30AB-4E8B-A7DD-3DFE7512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D03F-C1CB-4FC4-B326-7A69BB1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610D-E887-42F7-95D6-DBA7C96A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2FB0-9422-41BE-A073-103A8CCB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DC1-0C76-4D1C-B5BA-AEB46A93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966B-A235-453F-951F-D0800E8D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BB9-EAFF-4B05-83AC-FC2ADCB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966-0231-432A-85A0-03AB67DA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66A-F86E-446F-8DD6-C77216BE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8EE3-4C58-472C-BE78-01F3A62E00A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1A3A-63FB-4BB5-A964-E99B52492A5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A9FE-88DC-4315-8D08-AD79A8BD65A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D003-16C4-4DFE-837F-6F51913887A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F886-65B4-4872-968C-D03E056ACBE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274680" y="347760"/>
            <a:ext cx="6778440" cy="131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1332000" y="1844280"/>
            <a:ext cx="6400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1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404040"/>
                </a:solidFill>
                <a:uFillTx/>
                <a:latin typeface="Trebuchet MS"/>
              </a:rPr>
              <a:t>  </a:t>
            </a:r>
            <a:r>
              <a:rPr b="0" i="1" lang="ru-RU" sz="4400" spc="-1" strike="noStrike" u="sng">
                <a:solidFill>
                  <a:srgbClr val="404040"/>
                </a:solidFill>
                <a:uFillTx/>
                <a:latin typeface="Trebuchet MS"/>
              </a:rPr>
              <a:t>Что такое система счисления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1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404040"/>
                </a:solidFill>
                <a:uFillTx/>
                <a:latin typeface="Trebuchet MS"/>
              </a:rPr>
              <a:t>  </a:t>
            </a:r>
            <a:r>
              <a:rPr b="0" i="1" lang="ru-RU" sz="4400" spc="-1" strike="noStrike" u="sng">
                <a:solidFill>
                  <a:srgbClr val="404040"/>
                </a:solidFill>
                <a:uFillTx/>
                <a:latin typeface="Trebuchet MS"/>
              </a:rPr>
              <a:t>Какие бывают системы счисления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2268360" y="18900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7030a0"/>
                </a:solidFill>
                <a:uFillTx/>
                <a:latin typeface="Arial"/>
              </a:rPr>
              <a:t>Проверка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79280" y="1587600"/>
            <a:ext cx="885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101111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=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5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+ 0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3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1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0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50920" y="1044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4321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042920" y="2276640"/>
            <a:ext cx="77770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= 32+0+8+4+2+1 = 47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55520" y="4108320"/>
            <a:ext cx="8858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1111</a:t>
            </a:r>
            <a:r>
              <a:rPr b="1" lang="ru-RU" sz="44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= 1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3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2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1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0 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=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155520" y="35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2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947880" y="4941720"/>
            <a:ext cx="6188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= 8+4+2+1 = 15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539640" y="404640"/>
            <a:ext cx="61866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47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 </a:t>
            </a: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+ 15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 = </a:t>
            </a: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62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260280" y="2173320"/>
            <a:ext cx="885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111110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=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5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+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3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1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+ 0*2</a:t>
            </a:r>
            <a:r>
              <a:rPr b="1" lang="ru-RU" sz="3200" spc="-1" strike="noStrike" baseline="30000">
                <a:solidFill>
                  <a:srgbClr val="7030a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79280" y="1503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43210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755640" y="2938320"/>
            <a:ext cx="8137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= 32+16+8+4+2+0 = 62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620640" y="4076640"/>
            <a:ext cx="8136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Arial"/>
              </a:rPr>
              <a:t>62</a:t>
            </a:r>
            <a:r>
              <a:rPr b="1" lang="ru-RU" sz="66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r>
              <a:rPr b="1" lang="ru-RU" sz="6600" spc="-1" strike="noStrike">
                <a:solidFill>
                  <a:srgbClr val="7030a0"/>
                </a:solidFill>
                <a:latin typeface="Arial"/>
              </a:rPr>
              <a:t> = 62</a:t>
            </a:r>
            <a:r>
              <a:rPr b="1" lang="ru-RU" sz="66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620640" y="5300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568d11"/>
                </a:solidFill>
                <a:uFillTx/>
                <a:latin typeface="Arial"/>
              </a:rPr>
              <a:t>Задание выполнено вер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5542200" cy="1603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Физминутка."/>
          <p:cNvPicPr/>
          <p:nvPr/>
        </p:nvPicPr>
        <p:blipFill>
          <a:blip r:embed="rId2"/>
          <a:stretch/>
        </p:blipFill>
        <p:spPr>
          <a:xfrm>
            <a:off x="1116000" y="2708280"/>
            <a:ext cx="1749600" cy="1081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i081.radikal.ru/1003/0c/33f91f3bb110.gif"/>
          <p:cNvPicPr/>
          <p:nvPr/>
        </p:nvPicPr>
        <p:blipFill>
          <a:blip r:embed="rId3"/>
          <a:stretch/>
        </p:blipFill>
        <p:spPr>
          <a:xfrm>
            <a:off x="4932360" y="4005360"/>
            <a:ext cx="30481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395280" y="239112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тить программу проверки навыков сложения в двоичной системе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предложен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перевод в десятичн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Прямоугольник 3" descr=""/>
          <p:cNvPicPr/>
          <p:nvPr/>
        </p:nvPicPr>
        <p:blipFill>
          <a:blip r:embed="rId1"/>
          <a:stretch/>
        </p:blipFill>
        <p:spPr>
          <a:xfrm>
            <a:off x="133200" y="225360"/>
            <a:ext cx="8761680" cy="151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164200" cy="29494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3"/>
          <p:cNvSpPr/>
          <p:nvPr/>
        </p:nvSpPr>
        <p:spPr>
          <a:xfrm>
            <a:off x="755640" y="5032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запуска программы на экране открывается главное ок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755640" y="5032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учающиеся выбирают уровень слож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311040" y="3068640"/>
            <a:ext cx="4303800" cy="3544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4716360" y="1238400"/>
            <a:ext cx="4178520" cy="32209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6"/>
          <p:cNvSpPr/>
          <p:nvPr/>
        </p:nvSpPr>
        <p:spPr>
          <a:xfrm>
            <a:off x="826920" y="1268280"/>
            <a:ext cx="46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з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ышен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684360" y="55368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флексия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олжить фра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1116000" y="1989000"/>
            <a:ext cx="590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21a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Сегодня я узнал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21a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Было трудн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21a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Я понял, чт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21a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Теперь я могу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21a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Я научился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21a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821a08"/>
                </a:solidFill>
                <a:latin typeface="Arial"/>
              </a:rPr>
              <a:t>Я не смог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469800" y="6480"/>
            <a:ext cx="8448840" cy="1127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95280" y="1483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учить правила выполнения арифметических действий в двоичной системе счисления, выучить таблицу сложени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те действия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110101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+ 10101101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143000" y="731520"/>
            <a:ext cx="640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04040"/>
                </a:solidFill>
                <a:uFillTx/>
                <a:latin typeface="Trebuchet MS"/>
              </a:rPr>
              <a:t>Как выполнить перевод чисел из одной системы счисления в другую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404040"/>
                </a:solidFill>
                <a:uFillTx/>
                <a:latin typeface="Trebuchet MS"/>
              </a:rPr>
              <a:t>Как выполнить перевод чисел из двоичной системы счисления в десятичную и обратно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143000" y="188640"/>
            <a:ext cx="6400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Прочитайте стихотворение А.Н. Стариков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й было 1100 лет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на в 101 класс ходил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ортфеле по 100 книг носил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ё это правда, а не бред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гда пыля десятком ног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на шагала по дороге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 ней  всегда бежал щено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 одним хвостом, зато 100-гий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на ловила каждый зву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оими 10-ю ушам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 10 загорелых ру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 и поводок держа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 10 тёмно-синих гла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глядывали мир привыч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 станет всё совсем обычным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гда поймёте наш рассказ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67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1680" cy="12920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2411280" y="2349360"/>
            <a:ext cx="46818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Comic Sans MS"/>
              </a:rPr>
              <a:t>0 + 0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Comic Sans MS"/>
              </a:rPr>
              <a:t>0 + 1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Comic Sans MS"/>
              </a:rPr>
              <a:t>1 + 0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Comic Sans MS"/>
              </a:rPr>
              <a:t>1 + 1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1835280" y="1628640"/>
          <a:ext cx="5040360" cy="304812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+ 10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= 100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+ 10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= 101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+ 11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= 110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+ 100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=1000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1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+ 111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= 1110</a:t>
                      </a:r>
                      <a:r>
                        <a:rPr b="1" lang="ru-RU" sz="4000" spc="-1" strike="noStrike" baseline="-25000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79280" y="189000"/>
            <a:ext cx="813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ример 1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1110</a:t>
            </a:r>
            <a:r>
              <a:rPr b="1" lang="ru-RU" sz="48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 + 1001</a:t>
            </a:r>
            <a:r>
              <a:rPr b="1" lang="ru-RU" sz="48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 =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3289320" y="390204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292720" y="393372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550960" y="1879560"/>
            <a:ext cx="392436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baseline="-25000">
                <a:solidFill>
                  <a:srgbClr val="7030a0"/>
                </a:solidFill>
                <a:latin typeface="Arial"/>
              </a:rPr>
              <a:t>+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 1 1 1 0</a:t>
            </a:r>
            <a:r>
              <a:rPr b="1" lang="ru-RU" sz="60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1 0 0 1</a:t>
            </a:r>
            <a:r>
              <a:rPr b="1" lang="ru-RU" sz="60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643280" y="3933720"/>
            <a:ext cx="5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995640" y="3933720"/>
            <a:ext cx="5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419640" y="3916440"/>
            <a:ext cx="5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2843280" y="3909960"/>
            <a:ext cx="5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2268360" y="18900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7030a0"/>
                </a:solidFill>
                <a:uFillTx/>
                <a:latin typeface="Arial"/>
              </a:rPr>
              <a:t>Проверка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79280" y="1587600"/>
            <a:ext cx="8856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1110</a:t>
            </a:r>
            <a:r>
              <a:rPr b="1" lang="ru-RU" sz="44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= 1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3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2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1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+ 0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0 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=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79280" y="98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2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71640" y="2421000"/>
            <a:ext cx="61862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= 8+4+2+0 = 14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55520" y="4108320"/>
            <a:ext cx="8858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1001</a:t>
            </a:r>
            <a:r>
              <a:rPr b="1" lang="ru-RU" sz="44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= 1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3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+ 0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2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+ 0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1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0 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=</a:t>
            </a:r>
            <a:r>
              <a:rPr b="1" lang="ru-RU" sz="4400" spc="-1" strike="noStrike" baseline="30000">
                <a:solidFill>
                  <a:srgbClr val="7030a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55520" y="35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2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947880" y="4941720"/>
            <a:ext cx="6188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= 8+0+0+1 = 9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539640" y="404640"/>
            <a:ext cx="61866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14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 </a:t>
            </a: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+ 9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 = </a:t>
            </a: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23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60280" y="2173320"/>
            <a:ext cx="8856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0111</a:t>
            </a:r>
            <a:r>
              <a:rPr b="1" lang="ru-RU" sz="36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= 1*2</a:t>
            </a:r>
            <a:r>
              <a:rPr b="1" lang="ru-RU" sz="3600" spc="-1" strike="noStrike" baseline="30000">
                <a:solidFill>
                  <a:srgbClr val="7030a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+ 0*2</a:t>
            </a:r>
            <a:r>
              <a:rPr b="1" lang="ru-RU" sz="3600" spc="-1" strike="noStrike" baseline="30000">
                <a:solidFill>
                  <a:srgbClr val="7030a0"/>
                </a:solidFill>
                <a:latin typeface="Arial"/>
              </a:rPr>
              <a:t>3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600" spc="-1" strike="noStrike" baseline="30000">
                <a:solidFill>
                  <a:srgbClr val="7030a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600" spc="-1" strike="noStrike" baseline="30000">
                <a:solidFill>
                  <a:srgbClr val="7030a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+ 1*2</a:t>
            </a:r>
            <a:r>
              <a:rPr b="1" lang="ru-RU" sz="3600" spc="-1" strike="noStrike" baseline="30000">
                <a:solidFill>
                  <a:srgbClr val="7030a0"/>
                </a:solidFill>
                <a:latin typeface="Arial"/>
              </a:rPr>
              <a:t>0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=</a:t>
            </a:r>
            <a:r>
              <a:rPr b="1" lang="ru-RU" sz="3600" spc="-1" strike="noStrike" baseline="30000">
                <a:solidFill>
                  <a:srgbClr val="7030a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09600" y="1503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3210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55640" y="2938320"/>
            <a:ext cx="8137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= 16+0+4+2+1 = 23</a:t>
            </a:r>
            <a:r>
              <a:rPr b="1" lang="ru-RU" sz="54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620640" y="4076640"/>
            <a:ext cx="8136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Arial"/>
              </a:rPr>
              <a:t>23</a:t>
            </a:r>
            <a:r>
              <a:rPr b="1" lang="ru-RU" sz="66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r>
              <a:rPr b="1" lang="ru-RU" sz="6600" spc="-1" strike="noStrike">
                <a:solidFill>
                  <a:srgbClr val="7030a0"/>
                </a:solidFill>
                <a:latin typeface="Arial"/>
              </a:rPr>
              <a:t> = 23</a:t>
            </a:r>
            <a:r>
              <a:rPr b="1" lang="ru-RU" sz="6600" spc="-1" strike="noStrike" baseline="-25000">
                <a:solidFill>
                  <a:srgbClr val="7030a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20640" y="5300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568d11"/>
                </a:solidFill>
                <a:uFillTx/>
                <a:latin typeface="Arial"/>
              </a:rPr>
              <a:t>Задание выполнено вер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8"/>
          <p:cNvSpPr/>
          <p:nvPr/>
        </p:nvSpPr>
        <p:spPr>
          <a:xfrm>
            <a:off x="179280" y="40464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ример 2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101111</a:t>
            </a:r>
            <a:r>
              <a:rPr b="1" lang="ru-RU" sz="48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 +1111</a:t>
            </a:r>
            <a:r>
              <a:rPr b="1" lang="ru-RU" sz="48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=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"/>
          <p:cNvSpPr/>
          <p:nvPr/>
        </p:nvSpPr>
        <p:spPr>
          <a:xfrm flipV="1">
            <a:off x="2627280" y="3843360"/>
            <a:ext cx="4229280" cy="1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1258920" y="1773360"/>
            <a:ext cx="585144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baseline="-25000">
                <a:solidFill>
                  <a:srgbClr val="7030a0"/>
                </a:solidFill>
                <a:latin typeface="Arial"/>
              </a:rPr>
              <a:t>+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    1 0 1 1 1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1 1 1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6156360" y="3908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5508720" y="390852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859280" y="3908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140360" y="390852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3503520" y="3908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2771640" y="3908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1:24:03Z</dcterms:created>
  <dc:creator>1</dc:creator>
  <dc:description/>
  <dc:language>en-US</dc:language>
  <cp:lastModifiedBy>УЧИТЕЛЬ</cp:lastModifiedBy>
  <dcterms:modified xsi:type="dcterms:W3CDTF">2013-04-09T10:59:55Z</dcterms:modified>
  <cp:revision>33</cp:revision>
  <dc:subject/>
  <dc:title>Тезисы</dc:title>
</cp:coreProperties>
</file>